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F59-80F5-4327-B4A3-F0732564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673-1540-4A72-9C80-B6D54BB7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D53-8335-4B51-9769-ACB47A73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852-983B-4FBB-91E7-E75621FF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D7A-F2FA-44CA-A532-FAA5BB70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FCD-970F-455B-9951-0B16775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7F8-8730-4731-9913-D97D7AFC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E3D-4EF0-4873-9409-D67C7B4E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83A-2321-426B-8F93-997F17E7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4CD-5821-4B50-847C-D71E07C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B53-7BC3-485E-B1C6-BF414DFE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95F-9E08-40CA-AB30-B1D3B9A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0A5-A345-41F1-83A3-C9091090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0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72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86400" y="3519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Reference Clinical Element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keys seemed more appropriate for building “information mode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the Referenced Clinical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the “hasKey”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1004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5880" y="18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sub-property hierarchy for “qualif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“Vital Signs” and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08T03:54:51Z</dcterms:modified>
  <cp:revision>61</cp:revision>
  <dc:subject/>
  <dc:title>Slide 1</dc:title>
</cp:coreProperties>
</file>